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8AF-F1AB-4275-8984-C7DBA32E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56D-FFFA-45E5-8257-66679877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62F3-D6B4-4B3C-8E5E-ABAE52AE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9A9D-A743-47DE-927C-B3DA6F35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47BB-3B6B-4AB0-BEF5-CA2DCB9A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1B1-EDE8-4555-BE3A-1B0578CE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2F1-530F-4E63-BB55-0AFF8819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916-D6B0-4940-8E33-E5BA579D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D22-BD01-4FB6-AA1C-7484C82E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853-8EFE-4D0A-ADA2-34C9C878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6084-DFAF-4032-A2B2-DF230F2E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C65-0C41-4D6E-8314-EE54B1DC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F5FF-8FFF-4B09-BC23-2CF90B7099A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lassificação dos sol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A importância da classificação dos s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108000" y="1557360"/>
            <a:ext cx="885672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O objetivo da classificação dos solos, sob o ponto de vista de engenharia, é o de poder estimar o provável comportamento do solo ou, pelo menos, o de orientar o programa de investigação necessário para permitir a adequada análise de um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Os índices empregados são geralmente a composição granulométrica e os índices de Atterbe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08000" y="384660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Formas de Classif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8"/>
          <p:cNvSpPr/>
          <p:nvPr/>
        </p:nvSpPr>
        <p:spPr>
          <a:xfrm>
            <a:off x="108000" y="4414680"/>
            <a:ext cx="8856720" cy="22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Origem: solos residuais e solos transpor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Evolução pedogenética: classificação pedológica dos so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Características peculiares: presença de MO, estrutura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Tipo e comportamento das partículas constituintes: sistemas  classificação dos solos baseados em propriedades – índ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Exemplo: Classificação pedológica dos s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pedologico"/>
          <p:cNvPicPr/>
          <p:nvPr/>
        </p:nvPicPr>
        <p:blipFill>
          <a:blip r:embed="rId2"/>
          <a:stretch/>
        </p:blipFill>
        <p:spPr>
          <a:xfrm>
            <a:off x="1979640" y="1557360"/>
            <a:ext cx="5400720" cy="5116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lassificação Un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08000" y="1533600"/>
            <a:ext cx="885672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88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Elaborado pelo Prof. Casagrande para obras de aeroportos. Atualmente é utilizado pelos geotécnicos em barragens de terr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88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Apresenta uma tabela de classificação onde se identificam três principais divisões de solos: solos de granulometria grossa; solos de granulometria fina e; solos altamente orgânic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5280" y="3429000"/>
          <a:ext cx="2873520" cy="3352680"/>
        </p:xfrm>
        <a:graphic>
          <a:graphicData uri="http://schemas.openxmlformats.org/drawingml/2006/table">
            <a:tbl>
              <a:tblPr/>
              <a:tblGrid>
                <a:gridCol w="503280"/>
                <a:gridCol w="2370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regulh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o orgâ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m gradu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 gradu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compressibil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xa compressibil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46"/>
          <p:cNvSpPr/>
          <p:nvPr/>
        </p:nvSpPr>
        <p:spPr>
          <a:xfrm>
            <a:off x="3492360" y="3689280"/>
            <a:ext cx="5256360" cy="3009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Identificados pelo conjunto de duas letras. As 5 letras superiores indicam o tipo principal do solo e as 4 seguintes correspondem a dados complementares dos so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Exempl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entury Gothic"/>
              </a:rPr>
              <a:t>SW – </a:t>
            </a:r>
            <a:r>
              <a:rPr b="1" i="1" lang="pt-BR" sz="2000" spc="-1" strike="noStrike">
                <a:solidFill>
                  <a:srgbClr val="000000"/>
                </a:solidFill>
                <a:latin typeface="Century Gothic"/>
              </a:rPr>
              <a:t>Areia bem gradu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entury Gothic"/>
              </a:rPr>
              <a:t>CH – </a:t>
            </a:r>
            <a:r>
              <a:rPr b="1" i="1" lang="pt-BR" sz="2000" spc="-1" strike="noStrike">
                <a:solidFill>
                  <a:srgbClr val="000000"/>
                </a:solidFill>
                <a:latin typeface="Century Gothic"/>
              </a:rPr>
              <a:t>Argila de alta compressibil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lassificação Un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7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669780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lassificação Un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ClassiA"/>
          <p:cNvPicPr/>
          <p:nvPr/>
        </p:nvPicPr>
        <p:blipFill>
          <a:blip r:embed="rId2"/>
          <a:stretch/>
        </p:blipFill>
        <p:spPr>
          <a:xfrm>
            <a:off x="611280" y="1700280"/>
            <a:ext cx="79200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assificação HRB (Highway Research Bo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08000" y="1739880"/>
            <a:ext cx="8856720" cy="49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É a classificação tradicionalmente mais empregada na caracterização de solos para uso em estrad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Classifica os solos em 8 grupo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sto MT"/>
              </a:rPr>
              <a:t>solos granulares (% passante #200 &lt; 35%) → A-1, A-2 e A-3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sto MT"/>
              </a:rPr>
              <a:t>solos finos (% passante #200 &gt; 35%) → A-4, A-5, A-6 e A-7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sto MT"/>
              </a:rPr>
              <a:t>solos altamente orgânicos → podem ser classificados como A-8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Baseado na granulometria e Limites de Atterberg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Se inicia a classificação pela constatação da porcentagem de material que passa na peneira #200, só que são considerados solos de granulação grosseira os que tem menos de 35% passando nesta peneir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assificação HRB (Highway Research Bo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08000" y="1739880"/>
            <a:ext cx="88567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Esquema para classificação pelo Sistema Rodoviá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4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748836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Sistema trilinear de classificação tex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Triangulo"/>
          <p:cNvPicPr/>
          <p:nvPr/>
        </p:nvPicPr>
        <p:blipFill>
          <a:blip r:embed="rId2"/>
          <a:stretch/>
        </p:blipFill>
        <p:spPr>
          <a:xfrm>
            <a:off x="3492360" y="1628640"/>
            <a:ext cx="5472360" cy="5131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0" name="Rectangle 10"/>
          <p:cNvSpPr/>
          <p:nvPr/>
        </p:nvSpPr>
        <p:spPr>
          <a:xfrm>
            <a:off x="252360" y="1766880"/>
            <a:ext cx="3745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idera as porcentagens das frações areia, silte e argila obtidas dos ensaios de granulomet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252360" y="2924280"/>
            <a:ext cx="3745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pregado na classificação de solos em engenharia rodoviária e em Pedolog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252360" y="4025880"/>
            <a:ext cx="3745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agrama textural empregado em levantamentos de solos no Brasil (Lemos e Santos, 198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4:03:03Z</dcterms:created>
  <dc:creator>José Rojas</dc:creator>
  <dc:description/>
  <dc:language>en-US</dc:language>
  <cp:lastModifiedBy>José Rojas</cp:lastModifiedBy>
  <dcterms:modified xsi:type="dcterms:W3CDTF">2014-05-09T11:54:49Z</dcterms:modified>
  <cp:revision>139</cp:revision>
  <dc:subject/>
  <dc:title>Slide 1</dc:title>
</cp:coreProperties>
</file>